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CC4304-0DB9-4251-A0B6-5A16976FEB8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ED9675-789C-4357-A876-C8D0E04BC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BE29E5-F8B6-45F8-BC0D-C5D376B56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FE3BA9-33FE-4074-8274-3048DC8D3E5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CAC5B5-12F9-4CBA-8A34-50C3873C4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A6DEFD-07E3-49DD-8CF2-F923EC35A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736C2E-B88B-4AFB-A2C8-CD545DD60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1EC116-D7AE-4111-8436-945375F22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0400EE-A4E5-41DF-9924-197DA0D20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19412F-71F7-46B5-8394-73B2FF378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1394EA-C35F-48B0-9D7D-B1F0B8719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C1B6F1-6C94-4809-9D7B-4A9419BAA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6939A-7BD4-460F-9D53-AB1C2249595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三章  精神科护理的基本技能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王国芳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TextBox 2"/>
          <p:cNvSpPr/>
          <p:nvPr/>
        </p:nvSpPr>
        <p:spPr>
          <a:xfrm>
            <a:off x="1258920" y="1177920"/>
            <a:ext cx="684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三、建立良好护患关系的方法和技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TextBox 5"/>
          <p:cNvSpPr/>
          <p:nvPr/>
        </p:nvSpPr>
        <p:spPr>
          <a:xfrm>
            <a:off x="1258920" y="2205000"/>
            <a:ext cx="6049800" cy="39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三）与不同精神症状患者沟通的技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对妄想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对有攻击行为的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对抑郁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对木僵的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对异性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TextBox 2"/>
          <p:cNvSpPr/>
          <p:nvPr/>
        </p:nvSpPr>
        <p:spPr>
          <a:xfrm>
            <a:off x="1835280" y="1033560"/>
            <a:ext cx="61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四、影响护患沟通的因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TextBox 3"/>
          <p:cNvSpPr/>
          <p:nvPr/>
        </p:nvSpPr>
        <p:spPr>
          <a:xfrm>
            <a:off x="1116000" y="1928880"/>
            <a:ext cx="511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一）护士因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TextBox 4"/>
          <p:cNvSpPr/>
          <p:nvPr/>
        </p:nvSpPr>
        <p:spPr>
          <a:xfrm>
            <a:off x="1116000" y="2997360"/>
            <a:ext cx="30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二）患者因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TextBox 5"/>
          <p:cNvSpPr/>
          <p:nvPr/>
        </p:nvSpPr>
        <p:spPr>
          <a:xfrm>
            <a:off x="1152360" y="4067280"/>
            <a:ext cx="421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三）沟通因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TextBox 6"/>
          <p:cNvSpPr/>
          <p:nvPr/>
        </p:nvSpPr>
        <p:spPr>
          <a:xfrm>
            <a:off x="1152360" y="5148360"/>
            <a:ext cx="421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四）其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TextBox 5"/>
          <p:cNvSpPr/>
          <p:nvPr/>
        </p:nvSpPr>
        <p:spPr>
          <a:xfrm>
            <a:off x="900000" y="2492280"/>
            <a:ext cx="72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一、精神障碍患者的观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TextBox 6"/>
          <p:cNvSpPr/>
          <p:nvPr/>
        </p:nvSpPr>
        <p:spPr>
          <a:xfrm>
            <a:off x="900000" y="3327480"/>
            <a:ext cx="72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二、护理记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TextBox 9"/>
          <p:cNvSpPr/>
          <p:nvPr/>
        </p:nvSpPr>
        <p:spPr>
          <a:xfrm>
            <a:off x="539640" y="105408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Arial"/>
              </a:rPr>
              <a:t>第二节    精神障碍患者的观察与记录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1835280" y="1120680"/>
            <a:ext cx="61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一、精神障碍患者的观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755640" y="2276640"/>
            <a:ext cx="799308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一）观察的目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了解患者身心状况，为制订护理计划提供依据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掌握病情，供医生确立诊断及评价治疗效果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为护理教学、科研积累资料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避免意外事件的发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TextBox 2"/>
          <p:cNvSpPr/>
          <p:nvPr/>
        </p:nvSpPr>
        <p:spPr>
          <a:xfrm>
            <a:off x="1835280" y="1120680"/>
            <a:ext cx="612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一、精神障碍</a:t>
            </a:r>
            <a:r>
              <a:rPr b="0" lang="zh-CN" sz="3600" spc="-1" strike="noStrike">
                <a:solidFill>
                  <a:srgbClr val="046ca6"/>
                </a:solidFill>
                <a:latin typeface="Arial"/>
              </a:rPr>
              <a:t>患者</a:t>
            </a: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的观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TextBox 4"/>
          <p:cNvSpPr/>
          <p:nvPr/>
        </p:nvSpPr>
        <p:spPr>
          <a:xfrm>
            <a:off x="1042920" y="2924280"/>
            <a:ext cx="309744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二）观察的方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直接观察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间接观察法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矩形 7"/>
          <p:cNvSpPr/>
          <p:nvPr/>
        </p:nvSpPr>
        <p:spPr>
          <a:xfrm>
            <a:off x="4572000" y="2852640"/>
            <a:ext cx="457200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三）观察的原则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目的性、计划性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客观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整体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矩形 2"/>
          <p:cNvSpPr/>
          <p:nvPr/>
        </p:nvSpPr>
        <p:spPr>
          <a:xfrm>
            <a:off x="1116000" y="2274840"/>
            <a:ext cx="352728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四）观察的内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一般情况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精神症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躯体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心理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矩形 3"/>
          <p:cNvSpPr/>
          <p:nvPr/>
        </p:nvSpPr>
        <p:spPr>
          <a:xfrm>
            <a:off x="3062160" y="1341360"/>
            <a:ext cx="292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一、精神障碍</a:t>
            </a:r>
            <a:r>
              <a:rPr b="0" lang="zh-CN" sz="3600" spc="-1" strike="noStrike">
                <a:solidFill>
                  <a:srgbClr val="046ca6"/>
                </a:solidFill>
                <a:latin typeface="Arial"/>
              </a:rPr>
              <a:t>患者</a:t>
            </a: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的观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矩形 4"/>
          <p:cNvSpPr/>
          <p:nvPr/>
        </p:nvSpPr>
        <p:spPr>
          <a:xfrm>
            <a:off x="4572000" y="2924280"/>
            <a:ext cx="457200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治疗情况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6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社会功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7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家庭支持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TextBox 2"/>
          <p:cNvSpPr/>
          <p:nvPr/>
        </p:nvSpPr>
        <p:spPr>
          <a:xfrm>
            <a:off x="1908000" y="1120680"/>
            <a:ext cx="60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二、护理记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TextBox 3"/>
          <p:cNvSpPr/>
          <p:nvPr/>
        </p:nvSpPr>
        <p:spPr>
          <a:xfrm>
            <a:off x="900000" y="1841400"/>
            <a:ext cx="755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一）记录的方式与内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入院护理评估单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新入院患者一级评估（重病室护士完成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新入院患者二级评估（主班护士完成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新入院患者三级评估（主管或护士长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住院护理评估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护理记录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出院护理评估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健康教育评估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出院指导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0" y="2060640"/>
            <a:ext cx="91440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记录内容必须及时、准确、客观真实、简明扼要，必要时将患者的原话记录下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项目齐全，字迹清晰，禁止涂改，书写过程中出现错误时按统一规定修改后签名，并正确使用专业术语，记录完成后签护士全名并注明时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根据患者病情决定记录时间及频率，病情变化随时记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注意时效性，不可延迟或提前记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6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矩形 8"/>
          <p:cNvSpPr/>
          <p:nvPr/>
        </p:nvSpPr>
        <p:spPr>
          <a:xfrm>
            <a:off x="3307320" y="112536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Arial"/>
              </a:rPr>
              <a:t>（二）记录的要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TextBox 5"/>
          <p:cNvSpPr/>
          <p:nvPr/>
        </p:nvSpPr>
        <p:spPr>
          <a:xfrm>
            <a:off x="900000" y="2492280"/>
            <a:ext cx="72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一、日常生活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TextBox 6"/>
          <p:cNvSpPr/>
          <p:nvPr/>
        </p:nvSpPr>
        <p:spPr>
          <a:xfrm>
            <a:off x="900000" y="3327480"/>
            <a:ext cx="72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二、饮食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TextBox 9"/>
          <p:cNvSpPr/>
          <p:nvPr/>
        </p:nvSpPr>
        <p:spPr>
          <a:xfrm>
            <a:off x="539640" y="105408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Arial"/>
              </a:rPr>
              <a:t>第三节    精神障碍患者的基础护理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TextBox 6"/>
          <p:cNvSpPr/>
          <p:nvPr/>
        </p:nvSpPr>
        <p:spPr>
          <a:xfrm>
            <a:off x="900000" y="4191120"/>
            <a:ext cx="72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三、睡眠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TextBox 6"/>
          <p:cNvSpPr/>
          <p:nvPr/>
        </p:nvSpPr>
        <p:spPr>
          <a:xfrm>
            <a:off x="900000" y="5127480"/>
            <a:ext cx="72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四、安全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TextBox 2"/>
          <p:cNvSpPr/>
          <p:nvPr/>
        </p:nvSpPr>
        <p:spPr>
          <a:xfrm>
            <a:off x="1835280" y="1120680"/>
            <a:ext cx="61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一、日常生活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TextBox 3"/>
          <p:cNvSpPr/>
          <p:nvPr/>
        </p:nvSpPr>
        <p:spPr>
          <a:xfrm>
            <a:off x="1042920" y="2349360"/>
            <a:ext cx="6553440" cy="128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一）概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     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精神障碍患者往往生活懒散，日常生活自理能力下降或丧失，护士应帮助、督促和鼓励患者做好日常生活护理，并注意培养患者生活自理能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24000" y="1412640"/>
            <a:ext cx="86104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识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描述接触精神障碍患者的方法和精神科护理的基本内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理解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知道与精神障碍患者进行有效的沟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正确实施对精神障碍患者的基础护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运用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在与精神障碍患者建立良好的护患关系的基础上，对患者实施全面的观察，根据患者的管理要求完成对患者的基础护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矩形 2"/>
          <p:cNvSpPr/>
          <p:nvPr/>
        </p:nvSpPr>
        <p:spPr>
          <a:xfrm>
            <a:off x="1116000" y="1484280"/>
            <a:ext cx="6840720" cy="502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二）护理措施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入院卫生处置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制订日常生活护理计划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协助督促患者个人卫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晨晚间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个人卫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排泄情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加强健康教育，鼓励患者自我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TextBox 2"/>
          <p:cNvSpPr/>
          <p:nvPr/>
        </p:nvSpPr>
        <p:spPr>
          <a:xfrm>
            <a:off x="1835280" y="1120680"/>
            <a:ext cx="61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二、饮食护理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TextBox 3"/>
          <p:cNvSpPr/>
          <p:nvPr/>
        </p:nvSpPr>
        <p:spPr>
          <a:xfrm>
            <a:off x="755640" y="1916280"/>
            <a:ext cx="799308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一）概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精神障碍患者因受症状影响可出现各种饮食障碍，如拒食、厌食、异食、暴饮暴食等，同时精神科药物的副作用可引起患者吞咽困难、噎食等，因此，护士应认真做好患者的饮食护理，保证患者营养摄入充足，各项治疗顺利进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3" name="矩形 2"/>
          <p:cNvSpPr/>
          <p:nvPr/>
        </p:nvSpPr>
        <p:spPr>
          <a:xfrm>
            <a:off x="1403280" y="1341360"/>
            <a:ext cx="6769080" cy="52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二）护理措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创造良好的就餐环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维持就餐秩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拒食的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对因被害妄想、疑心饭菜有毒的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对有罪恶妄想的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对疑病的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对于木僵、紧张综合征的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矩形 2"/>
          <p:cNvSpPr/>
          <p:nvPr/>
        </p:nvSpPr>
        <p:spPr>
          <a:xfrm>
            <a:off x="1403280" y="2133720"/>
            <a:ext cx="633744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加强健康教育，鼓励患者自我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厌食的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6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暴饮暴食患者的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7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异食患者的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8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老年患者的饮食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TextBox 2"/>
          <p:cNvSpPr/>
          <p:nvPr/>
        </p:nvSpPr>
        <p:spPr>
          <a:xfrm>
            <a:off x="1835280" y="1120680"/>
            <a:ext cx="61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</a:rPr>
              <a:t>三、睡眠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TextBox 3"/>
          <p:cNvSpPr/>
          <p:nvPr/>
        </p:nvSpPr>
        <p:spPr>
          <a:xfrm>
            <a:off x="539640" y="1773360"/>
            <a:ext cx="824544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一）概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     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多数精神障碍患者在发病前或发病时出现睡眠障碍，睡眠的正常与否往往预示病情的好转、波动或恶化。严重的失眠可使患者产生焦虑、抑郁、烦躁，导致病情恶化。护士应该密切观察患者的睡眠情况，采取有效措施，保证患者充足的睡眠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矩形 2"/>
          <p:cNvSpPr/>
          <p:nvPr/>
        </p:nvSpPr>
        <p:spPr>
          <a:xfrm>
            <a:off x="1692360" y="1628640"/>
            <a:ext cx="4930560" cy="40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二）护理措施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创造良好的睡眠环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合理安排作息制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睡前避免兴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睡眠障碍的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加强巡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-360" y="1844280"/>
            <a:ext cx="88930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一）概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精神障碍患者由于受到精神症状的影响常出现冲动伤人、自杀、自伤、毁物等破坏性行为或外走等，患者大剂量服用抗精神障碍药物，药物副作用可导致肌张力增高或运动不能等锥体外系症状，使患者容易晕倒或摔倒，药物还可引起吞咽困难，导致噎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3" name="TextBox 4"/>
          <p:cNvSpPr/>
          <p:nvPr/>
        </p:nvSpPr>
        <p:spPr>
          <a:xfrm>
            <a:off x="1332000" y="981000"/>
            <a:ext cx="36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</a:rPr>
              <a:t>四、安全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0" y="1371600"/>
            <a:ext cx="9144000" cy="486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案例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-2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患者女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岁，会计。患者平日工作认真负责，谨小慎微。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007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年底，单位领导在年终总结大会上提出要对财务工作进行审核。当晚患者难以入眠。随后逐渐变得少言寡语，闷闷不乐，经常自言自语：“我有罪” “我贪污” “我不该吃饭” “我该枪毙”等（经核实，患者从未贪污犯罪）。患者少食少动并有自杀经历，被家人及时发现送医院就诊。急诊医生建议家属送患者去精神科就诊。随后在某精神科门诊确诊为：抑郁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611280" y="1773000"/>
            <a:ext cx="7921440" cy="451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（二）护理措施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掌握患者的病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加强巡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病区环境安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严格危险物品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严格安全检查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．加强重症及高风险患者的管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684360" y="2133360"/>
            <a:ext cx="7488000" cy="995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marL="343080" indent="0" algn="ctr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第四节  精神障碍患者的组织与管理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" name="TextBox 5"/>
          <p:cNvSpPr/>
          <p:nvPr/>
        </p:nvSpPr>
        <p:spPr>
          <a:xfrm>
            <a:off x="1763640" y="3860640"/>
            <a:ext cx="468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一、患者的组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TextBox 6"/>
          <p:cNvSpPr/>
          <p:nvPr/>
        </p:nvSpPr>
        <p:spPr>
          <a:xfrm>
            <a:off x="1763640" y="4941720"/>
            <a:ext cx="432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二、患者的管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0" name="TextBox 5"/>
          <p:cNvSpPr/>
          <p:nvPr/>
        </p:nvSpPr>
        <p:spPr>
          <a:xfrm>
            <a:off x="179280" y="2060640"/>
            <a:ext cx="871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      </a:t>
            </a: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第一节    与精神障碍患者的接触和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                     </a:t>
            </a: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护患关系的建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1" name="TextBox 6"/>
          <p:cNvSpPr/>
          <p:nvPr/>
        </p:nvSpPr>
        <p:spPr>
          <a:xfrm>
            <a:off x="826920" y="3357720"/>
            <a:ext cx="720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第二节    精神障碍患者的观察与记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TextBox 7"/>
          <p:cNvSpPr/>
          <p:nvPr/>
        </p:nvSpPr>
        <p:spPr>
          <a:xfrm>
            <a:off x="826920" y="4437000"/>
            <a:ext cx="73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第三节    精神障碍患者的基础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TextBox 8"/>
          <p:cNvSpPr/>
          <p:nvPr/>
        </p:nvSpPr>
        <p:spPr>
          <a:xfrm>
            <a:off x="900000" y="5445000"/>
            <a:ext cx="720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第四节    精神障碍患者的组织与管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Box 9"/>
          <p:cNvSpPr/>
          <p:nvPr/>
        </p:nvSpPr>
        <p:spPr>
          <a:xfrm>
            <a:off x="2195640" y="260280"/>
            <a:ext cx="460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Arial"/>
              </a:rPr>
              <a:t>目录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一、患者的组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病房的组织管理应该在病房护士长的领导下，由专职护士具体负责，建立以患者为主体的小组。患者的组织可根据病区内患者情况组织休养小组或康复小组，进行分层管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324000" y="2565360"/>
            <a:ext cx="8610480" cy="367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一）封闭式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目的：便于组织管理、观察和照顾精神障碍患者，有效预防意外事件的发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对象：精神障碍急性期、严重的冲动、伤人、毁物、自杀自伤及病情波动无自知力的患者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TextBox 4"/>
          <p:cNvSpPr/>
          <p:nvPr/>
        </p:nvSpPr>
        <p:spPr>
          <a:xfrm>
            <a:off x="1763640" y="1341360"/>
            <a:ext cx="40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Arial"/>
              </a:rPr>
              <a:t>二、患者的管理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实施方法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制订相关制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重视心理护理和人文关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严密观察病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安排丰富的工娱活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95280" y="2276640"/>
            <a:ext cx="843120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一）开放式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目的：锻炼和培养患者的社会适应能力，满足患者的心理需要，调动患者的积极性和主动性，提高患者生活的信心，促进康复，帮助患者逐步达到生活自理，适应正常社会环境，早日回归社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对象：病情稳定、康复期等待出院、安心住院积极配合治疗并自觉遵守各项纪律的患者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TextBox 4"/>
          <p:cNvSpPr/>
          <p:nvPr/>
        </p:nvSpPr>
        <p:spPr>
          <a:xfrm>
            <a:off x="1763640" y="1341360"/>
            <a:ext cx="40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Arial"/>
              </a:rPr>
              <a:t>二、患者的管理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04920" y="1916280"/>
            <a:ext cx="8610480" cy="433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开放式管理的类型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半开放式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开放式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实施方法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患者的收治及病情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患者的收治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患者的病情评估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完善规章制度，强化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加强患者行为管理和健康宣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TextBox 6"/>
          <p:cNvSpPr/>
          <p:nvPr/>
        </p:nvSpPr>
        <p:spPr>
          <a:xfrm>
            <a:off x="1332000" y="1916280"/>
            <a:ext cx="61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</a:rPr>
              <a:t>三、精神科的分级护理管理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TextBox 7"/>
          <p:cNvSpPr/>
          <p:nvPr/>
        </p:nvSpPr>
        <p:spPr>
          <a:xfrm>
            <a:off x="900000" y="3357720"/>
            <a:ext cx="712800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       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精神科分级护理是根据患者病情轻重和对自身、他人及周围环境安全的影响程度分为特级护理及一、二、三级护理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特级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324000" y="1700280"/>
            <a:ext cx="861048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适应对象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精神障碍伴有严重躯体疾病，病情危重，随时可能有生命危险，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有严重的自杀自伤、冲动伤人及外逃行为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因精神药物引起严重不良反应，出现危象、危及生命者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有意识障碍；木僵患者；严重的痴呆、抑郁、躁狂状态；癫痫持续状态患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2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特级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0" y="1484280"/>
            <a:ext cx="91440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护理内容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设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小时专人护理，严密观察病情变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做好基础护理，每日进行晨晚间护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正确执行医嘱和各项护理常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保证患者每日入量；加强导管护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严格掌握约束的适应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备好急救物品及药品，随时做好抢救准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7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履行相关告知制度，详细记录各项护理治疗措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一级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0" y="1268280"/>
            <a:ext cx="91440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适应对象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精神症状急性期；严重药物副反应；生活可以部分自理，但病情随时可能有变化；特殊治疗需观察病情变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一级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A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：有自杀自伤、冲动、走失倾向的患者；严重药物副作用的患者；严重躯体合并症的患者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一级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B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：严防摔伤、约束的患者；病情波动较大的患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一级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：除上述情况外的一级护理患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0" y="1170000"/>
            <a:ext cx="893448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案例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-1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患者女性，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5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岁，工人。因睡眠差、多疑、行为紊乱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8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年，加重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个月就诊。患者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8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年前由于离婚逐渐出现精神失常，主要表现为睡眠明显减少，有时甚至彻夜不眠。家人未在意。后来出现多疑，认为周围的人说话是在议论她，有人想害她，自己的饭菜中都被别人下了毒药，认为自己想的事情，即使不说别人也会知道，经常面对墙壁自言自语。情绪差，经常发脾气，说自己活得痛苦想自伤。因睡眠差，言行紊乱，不断与家人发生冲突，被送入院。入院后检查无阳性体征。精神检查：患者在家人陪同下步入病房，衣着整齐，貌龄相当。入院后患者多独处，很少与人接触。对检查、治疗、护理被动服从，生活能自理，睡眠差，饮食差。患者意识清晰，定向力完整，解除被动，有明显的被害妄想、关系妄想、被洞悉感，情感淡漠，意志活动减退，行为懒散，无自知力。临床诊断：精神分裂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一级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24000" y="1483920"/>
            <a:ext cx="86104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护理内容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将患者安置在护士易于观察的病室，每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分钟巡视一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给予或协助生活护理，每日进行晨晚间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正确执行医嘱和各项护理常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指导患者饮食，保证入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对约束的患者，严格执行约束制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履行相关告知制度并针对疾病进行健康教育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7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随时做好抢救准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二级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610920" y="2349360"/>
            <a:ext cx="784836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适应对象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精神障碍缓解期，生活能自理，轻度痴呆患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二级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23640" y="148392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护理内容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安全护理措施到位，定时巡视，完成常规临床观察内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遵医嘱按时完成治疗和用药并指导患者正确用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指导患者饮食，帮助或协助患者提高生活自理能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履行相关告知制度并针对疾病协助功能训练及进行健康教育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三级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10920" y="2349360"/>
            <a:ext cx="784836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适应对象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精神障碍恢复期，躯体症状缓解，生活能自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三级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23640" y="148392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护理内容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安全护理措施到位，定时巡视，完成常规临床观察内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遵医嘱按时完成治疗和用药并指导患者正确用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指导患者饮食，协助患者的生活护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履行相关告知制度并针对疾病指导患者进行功能训练和健康教育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75528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思考题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324000" y="1052640"/>
            <a:ext cx="861048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患者，女，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5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岁，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0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年前无明显诱因出现认为父母、丈夫、同事等所有的人都不喜欢她，认为家里人想算计她，同事想害她。认为别人说话都是针对她，故意气她，因此，经常与家人和同事发生口角和冲突。患者认为丈夫想害死她好独占家产。于某日凌晨丈夫熟睡时，拿菜刀砍伤丈夫头部，之后由家人强制送入医院。入院后患者情绪激动，表情紧张，不断地叫喊、谩骂，对所有的人都非常敌视，不合作，对医护人员的问话不予理睬，否认自己患有精神疾病，说丈夫要害死她，所以自己先下手，并要求警察把她丈夫抓起来保证自己的安全，患者反复要求出院，拒食拒药，反复劝说无效。诊断为：精神分裂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请分析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通过护理评估，列出患者的主要精神症状及护理诊断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如何为该患者实施基础护理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TextBox 5"/>
          <p:cNvSpPr/>
          <p:nvPr/>
        </p:nvSpPr>
        <p:spPr>
          <a:xfrm>
            <a:off x="900000" y="2492280"/>
            <a:ext cx="72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一、与患者沟通的意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TextBox 6"/>
          <p:cNvSpPr/>
          <p:nvPr/>
        </p:nvSpPr>
        <p:spPr>
          <a:xfrm>
            <a:off x="900000" y="3284640"/>
            <a:ext cx="72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二、建立良好护患关系的要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Box 7"/>
          <p:cNvSpPr/>
          <p:nvPr/>
        </p:nvSpPr>
        <p:spPr>
          <a:xfrm>
            <a:off x="900000" y="4292640"/>
            <a:ext cx="532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三、建立良好护患关系的方法和技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TextBox 8"/>
          <p:cNvSpPr/>
          <p:nvPr/>
        </p:nvSpPr>
        <p:spPr>
          <a:xfrm>
            <a:off x="900000" y="5157720"/>
            <a:ext cx="525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四、影响护患沟通的因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TextBox 9"/>
          <p:cNvSpPr/>
          <p:nvPr/>
        </p:nvSpPr>
        <p:spPr>
          <a:xfrm>
            <a:off x="539640" y="119700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Arial"/>
              </a:rPr>
              <a:t>第一节     与精神障碍患者的接触和护患关系的建立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TextBox 2"/>
          <p:cNvSpPr/>
          <p:nvPr/>
        </p:nvSpPr>
        <p:spPr>
          <a:xfrm>
            <a:off x="1332000" y="1052640"/>
            <a:ext cx="58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</a:rPr>
              <a:t>一、与患者沟通的意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TextBox 3"/>
          <p:cNvSpPr/>
          <p:nvPr/>
        </p:nvSpPr>
        <p:spPr>
          <a:xfrm>
            <a:off x="900000" y="1989000"/>
            <a:ext cx="741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</a:rPr>
              <a:t>治疗性沟通的概念：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护士运用护理和心理学的理论和技术，应用语言和非语言沟通技巧向精神障碍患者提供专业服务，使之恢复健康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TextBox 4"/>
          <p:cNvSpPr/>
          <p:nvPr/>
        </p:nvSpPr>
        <p:spPr>
          <a:xfrm>
            <a:off x="468360" y="3860640"/>
            <a:ext cx="7991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</a:rPr>
              <a:t>治疗性沟通的意义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尊重患者，发展信任关系，为建立良好的护患关系打基础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收集资料，为共同商讨治疗护理措施做准备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3.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向患者提供健康教育和心理支持，提高自我护理的能力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TextBox 2"/>
          <p:cNvSpPr/>
          <p:nvPr/>
        </p:nvSpPr>
        <p:spPr>
          <a:xfrm>
            <a:off x="1835280" y="981000"/>
            <a:ext cx="554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</a:rPr>
              <a:t>二、建立良好护患关系的要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TextBox 3"/>
          <p:cNvSpPr/>
          <p:nvPr/>
        </p:nvSpPr>
        <p:spPr>
          <a:xfrm>
            <a:off x="1116000" y="1928880"/>
            <a:ext cx="511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一）掌握患者的基本情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、一般情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、疾病情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TextBox 4"/>
          <p:cNvSpPr/>
          <p:nvPr/>
        </p:nvSpPr>
        <p:spPr>
          <a:xfrm>
            <a:off x="1116000" y="3424320"/>
            <a:ext cx="5111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二）建立护患关系的基本要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、正确认识精神障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、尊重患者人格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、设身处地为患者考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、一致性与持续性的态度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5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、加强自身修养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TextBox 2"/>
          <p:cNvSpPr/>
          <p:nvPr/>
        </p:nvSpPr>
        <p:spPr>
          <a:xfrm>
            <a:off x="1116000" y="1104840"/>
            <a:ext cx="669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三、建立良好护患关系的方法和技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TextBox 3"/>
          <p:cNvSpPr/>
          <p:nvPr/>
        </p:nvSpPr>
        <p:spPr>
          <a:xfrm>
            <a:off x="1619280" y="2205000"/>
            <a:ext cx="5113440" cy="39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一）治疗性沟通的要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保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以患者为中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制订相应的护理目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尊重和接受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避免过多的自我暴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矩形 2"/>
          <p:cNvSpPr/>
          <p:nvPr/>
        </p:nvSpPr>
        <p:spPr>
          <a:xfrm>
            <a:off x="1979640" y="2349360"/>
            <a:ext cx="5238720" cy="39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二）治疗性沟通的技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创造良好的沟通环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善于引导启发患者谈话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有效倾听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非语言沟通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</a:rPr>
              <a:t>、适当的沉默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矩形 3"/>
          <p:cNvSpPr/>
          <p:nvPr/>
        </p:nvSpPr>
        <p:spPr>
          <a:xfrm>
            <a:off x="4668120" y="141300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</a:rPr>
              <a:t>三、建立良好护患关系的方法和技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00Z</dcterms:created>
  <dc:creator>zhang7</dc:creator>
  <dc:description/>
  <dc:language>en-US</dc:language>
  <cp:lastModifiedBy>dell</cp:lastModifiedBy>
  <cp:lastPrinted>2411-12-30T00:00:00Z</cp:lastPrinted>
  <dcterms:modified xsi:type="dcterms:W3CDTF">2015-12-31T07:04:21Z</dcterms:modified>
  <cp:revision>70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46</vt:lpwstr>
  </property>
</Properties>
</file>